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911B-ABBA-456E-BCD8-87B7F670E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6925-8899-46EE-839E-23A2CEBC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2C72-6F4B-417F-BECE-A91099649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6C8A-377F-49AC-81D4-9A59EA93A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41D0-E2F4-4978-9B1F-C95E8019D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25E7-A6B3-4161-93DB-3D428225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5EC0-E5A5-42F0-BEDB-06D2F143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88FA-D6FA-4349-AB7F-9F496586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07B2-08A5-4AEC-95DF-832C4BA8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12024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71A9-D9A6-4FBB-9BE9-DD94A8A5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50E1-1F9B-440C-8B08-2945DB0E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8634-DE54-485B-88B9-A3DD9966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DC0D-BF0D-467E-B3B5-BEE39A61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FA9D-FF91-4B58-B7A3-81B89207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C6AA-4BE3-4479-88FC-A87133F4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F0B8-C19E-4848-9B7B-AA9236F36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44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072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44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072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D19A-78A0-4DF8-840E-D5E62530F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0AFCC-717D-4DDF-B3E3-1C82D1865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C61C2-E28C-46EA-AA38-6C93BF06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C7315-8B55-4E6A-85B4-E35E96F7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613BB-647A-463F-8CA2-17F3E578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7AB75-B357-4D91-BF65-BC297CE6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7AD9-A88E-4BD0-81BF-D6CF847F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12024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7600D-ADCC-4DD7-93D3-DB6FEDBF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67CD0-3B5E-46BF-9D89-AE18CA26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5428B-F1C0-4F97-82D3-9F440F90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63E86-0CD6-4603-A3F6-BB41B258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ED8CB-D886-43C4-9F5D-09ACEC67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56E2E-9978-410D-A467-7C5870CDC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44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072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44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072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E24E0-4B67-4C28-9B80-31AC8E778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71121-2A16-4F18-B829-AC4414FC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A9235-AF47-43E0-86D8-6F9F8C28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800D0-211D-4D94-96BE-BFAB82F9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A771-C0B7-4289-BB92-515E8DF4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9CF70-56F2-4711-BCC6-A88F740A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57D65-6194-4DB2-B428-676CCCD5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800" y="12024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2493C-0711-4CAF-9419-C992B2EB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1D815-8F6E-48ED-B10B-9673117D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6DBF6-1EA1-4455-959D-2627CD9C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F1CBA-0B16-4DCC-8EBE-FD51A73E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4699B-D543-44F9-B793-584A9160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E9B3C-21E1-4F5E-8668-781F611C5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1344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4072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1344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4072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A22B2-A97E-4145-BEF2-C90C72C23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28EBA-CA7A-411D-93B0-3CECE0FE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8488-3199-42AC-9087-99DFE780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FD810-7FDA-41D8-9114-30D48B46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054B5-45BE-4968-9A68-CBDA8361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B26FE-6361-4425-A5F7-BE155726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A05B7-9D57-4E60-A438-4E460460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85800" y="12024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34022-F943-491B-9D39-914FC9B8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1AA5F-6FEC-4FCA-8840-0C822533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A4750-FEE6-471F-82C8-D2937E14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C8D25-EBC3-44D9-9DE9-9AE949EE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84A8E-92F1-49D5-8A46-78AEA497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09375-862A-4630-952A-4697879F7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20240"/>
            <a:ext cx="77709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2D88-43F7-4104-95D5-FAA204D7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1344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40720" y="175212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1344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40720" y="4037040"/>
            <a:ext cx="25020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B0E6A-1790-45D3-A007-16F6857FA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52D6-D621-4C9C-9BFB-919E3BD8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03704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4439-8D94-4C40-8336-6828BED5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752120"/>
            <a:ext cx="379188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096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B7B5-700F-4D1C-9332-B5E054F6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685800" indent="-33660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2" marL="1035000" indent="-34920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indent="-33660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4" marL="1720800" indent="-34920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5" marL="1720800" indent="-34920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6" marL="1720800" indent="-34920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00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0F2337-C8BB-4C3D-9BAE-F8DC3740C33B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2892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3F4033-1E18-4694-8E9A-6344953A3A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ticket7R.png"/>
          <p:cNvPicPr/>
          <p:nvPr/>
        </p:nvPicPr>
        <p:blipFill>
          <a:blip r:embed="rId3"/>
          <a:stretch/>
        </p:blipFill>
        <p:spPr>
          <a:xfrm rot="1082400">
            <a:off x="5549760" y="1755360"/>
            <a:ext cx="1097280" cy="557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ticket8R.png"/>
          <p:cNvPicPr/>
          <p:nvPr/>
        </p:nvPicPr>
        <p:blipFill>
          <a:blip r:embed="rId4"/>
          <a:stretch/>
        </p:blipFill>
        <p:spPr>
          <a:xfrm rot="20712000">
            <a:off x="5382720" y="2155680"/>
            <a:ext cx="1096920" cy="555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42-16393499.png"/>
          <p:cNvPicPr/>
          <p:nvPr/>
        </p:nvPicPr>
        <p:blipFill>
          <a:blip r:embed="rId5"/>
          <a:stretch/>
        </p:blipFill>
        <p:spPr>
          <a:xfrm>
            <a:off x="2516040" y="304920"/>
            <a:ext cx="3427560" cy="4343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685800" indent="-33660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2" marL="1035000" indent="-34920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indent="-33660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4" marL="1720800" indent="-349200"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5" marL="1720800" indent="-349200">
              <a:spcBef>
                <a:spcPts val="20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6" marL="1720800" indent="-349200">
              <a:spcBef>
                <a:spcPts val="20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6200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00332D-344A-4D50-86E2-4582CC4F98B7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422892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CEC0DC-628D-4C63-B26F-DA3FE66DD1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ticket7R.png"/>
          <p:cNvPicPr/>
          <p:nvPr/>
        </p:nvPicPr>
        <p:blipFill>
          <a:blip r:embed="rId3"/>
          <a:stretch/>
        </p:blipFill>
        <p:spPr>
          <a:xfrm rot="1398600">
            <a:off x="6492960" y="1596960"/>
            <a:ext cx="2212920" cy="1120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ticket8R.png"/>
          <p:cNvPicPr/>
          <p:nvPr/>
        </p:nvPicPr>
        <p:blipFill>
          <a:blip r:embed="rId4"/>
          <a:stretch/>
        </p:blipFill>
        <p:spPr>
          <a:xfrm rot="21078000">
            <a:off x="5945040" y="2293920"/>
            <a:ext cx="2213280" cy="1122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685800" indent="-33660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2" marL="1035000" indent="-34920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indent="-33660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4" marL="1720800" indent="-34920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5" marL="1720800" indent="-349200"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6" marL="1720800" indent="-349200">
              <a:spcBef>
                <a:spcPts val="20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6200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CADE8D-4527-46B5-9E8E-0C18F4C94A61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422892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03B63B-9B20-4713-8F5A-AD49D56764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ticket7R.png"/>
          <p:cNvPicPr/>
          <p:nvPr/>
        </p:nvPicPr>
        <p:blipFill>
          <a:blip r:embed="rId3"/>
          <a:stretch/>
        </p:blipFill>
        <p:spPr>
          <a:xfrm rot="1398600">
            <a:off x="6035760" y="4568760"/>
            <a:ext cx="2212920" cy="1120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ticket8R.png"/>
          <p:cNvPicPr/>
          <p:nvPr/>
        </p:nvPicPr>
        <p:blipFill>
          <a:blip r:embed="rId4"/>
          <a:stretch/>
        </p:blipFill>
        <p:spPr>
          <a:xfrm rot="20218200">
            <a:off x="5236920" y="5035320"/>
            <a:ext cx="2212920" cy="11221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685800" indent="-33660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2" marL="1035000" indent="-34920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indent="-33660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4" marL="1720800" indent="-34920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5" marL="1720800" indent="-349200"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6" marL="1720800" indent="-349200">
              <a:spcBef>
                <a:spcPts val="20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66200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0ECF09-5F51-472E-B52B-F45E366A63D6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422892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DE0A22-A883-42F2-A5E0-F277633026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6"/>
          <p:cNvSpPr/>
          <p:nvPr/>
        </p:nvSpPr>
        <p:spPr>
          <a:xfrm>
            <a:off x="785880" y="2192400"/>
            <a:ext cx="3429000" cy="1440"/>
          </a:xfrm>
          <a:prstGeom prst="line">
            <a:avLst/>
          </a:prstGeom>
          <a:ln w="6480">
            <a:solidFill>
              <a:srgbClr val="fffff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2" name="Straight Connector 7"/>
          <p:cNvSpPr/>
          <p:nvPr/>
        </p:nvSpPr>
        <p:spPr>
          <a:xfrm>
            <a:off x="4937040" y="2192400"/>
            <a:ext cx="3429000" cy="1440"/>
          </a:xfrm>
          <a:prstGeom prst="line">
            <a:avLst/>
          </a:prstGeom>
          <a:ln w="6480">
            <a:solidFill>
              <a:srgbClr val="fffff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685800" indent="-33660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2" marL="1035000" indent="-34920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indent="-33660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4" marL="1720800" indent="-34920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5" marL="1720800" indent="-34920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6" marL="1720800" indent="-34920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6200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5F1184-5DCD-43BF-A9DC-C32C77F65DBE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422892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361751-EFC7-4947-A31C-0A9E8863D9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371600" y="488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sto MT"/>
              </a:rPr>
              <a:t>HOMELESSNESS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215" name="Picture 3" descr="images.jpg"/>
          <p:cNvPicPr/>
          <p:nvPr/>
        </p:nvPicPr>
        <p:blipFill>
          <a:blip r:embed="rId2"/>
          <a:stretch/>
        </p:blipFill>
        <p:spPr>
          <a:xfrm>
            <a:off x="1225440" y="158760"/>
            <a:ext cx="660744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eb8ea"/>
                </a:solidFill>
                <a:latin typeface="Calisto MT"/>
              </a:rPr>
              <a:t>Homelessness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85440" y="1868040"/>
            <a:ext cx="382284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Did you take a shower this morning?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Are your clothes clean?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Did you brush your teath this morning?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218" name="Picture 3" descr="images-1.jpg"/>
          <p:cNvPicPr/>
          <p:nvPr/>
        </p:nvPicPr>
        <p:blipFill>
          <a:blip r:embed="rId2"/>
          <a:stretch/>
        </p:blipFill>
        <p:spPr>
          <a:xfrm>
            <a:off x="4508640" y="2949480"/>
            <a:ext cx="46353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096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sto MT"/>
              </a:rPr>
              <a:t>Research </a:t>
            </a:r>
            <a:endParaRPr b="0" lang="en-US" sz="4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85800" y="1868040"/>
            <a:ext cx="777096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13:55:01Z</dcterms:created>
  <dc:creator>admin</dc:creator>
  <dc:description/>
  <dc:language>en-US</dc:language>
  <cp:lastModifiedBy>admin</cp:lastModifiedBy>
  <dcterms:modified xsi:type="dcterms:W3CDTF">2011-10-10T14:12:09Z</dcterms:modified>
  <cp:revision>2</cp:revision>
  <dc:subject/>
  <dc:title>Slide 1</dc:title>
</cp:coreProperties>
</file>